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96880" y="291600"/>
            <a:ext cx="896616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96880" y="4494240"/>
            <a:ext cx="8966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1560" y="215892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688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1560" y="4494240"/>
            <a:ext cx="43754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2844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60000" y="215892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9688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62844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60000" y="4494240"/>
            <a:ext cx="2886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600200"/>
            <a:ext cx="8178840" cy="1905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6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4190760"/>
            <a:ext cx="8178840" cy="1447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4305240" y="3670200"/>
            <a:ext cx="1569960" cy="2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892480" y="2069640"/>
            <a:ext cx="36702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5000"/>
          </a:bodyPr>
          <a:p>
            <a:pPr marL="380880" indent="-2188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marL="638280" indent="-21924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marL="895320" indent="-2188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marL="1152360" indent="-21924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marL="1409400" indent="-2188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marL="1409400" indent="-2188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marL="1409400" indent="-2188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3"/>
          <a:stretch/>
        </p:blipFill>
        <p:spPr>
          <a:xfrm>
            <a:off x="2374920" y="1536840"/>
            <a:ext cx="5423040" cy="6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596880" y="571320"/>
            <a:ext cx="8966160" cy="647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9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9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9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9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9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9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9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8000"/>
          </a:bodyPr>
          <a:p>
            <a:pPr marL="580680" indent="-39060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82720" indent="-39096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84400" indent="-39060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86080" indent="-39096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87760" indent="-39060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87760" indent="-39060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87760" indent="-39060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374920" y="1536840"/>
            <a:ext cx="5423040" cy="6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2374920" y="1536840"/>
            <a:ext cx="5423040" cy="6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6880" y="2819160"/>
            <a:ext cx="8966160" cy="1981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6880" y="5740560"/>
            <a:ext cx="8966160" cy="1231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1079640"/>
            <a:ext cx="419112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95360" y="4025880"/>
            <a:ext cx="419112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1079640" y="3809880"/>
            <a:ext cx="3009600" cy="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20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2374920" y="1536840"/>
            <a:ext cx="5423040" cy="6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"/>
          <p:cNvPicPr/>
          <p:nvPr/>
        </p:nvPicPr>
        <p:blipFill>
          <a:blip r:embed="rId3"/>
          <a:stretch/>
        </p:blipFill>
        <p:spPr>
          <a:xfrm>
            <a:off x="2374920" y="1536840"/>
            <a:ext cx="5423040" cy="680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96520" y="2069640"/>
            <a:ext cx="416556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0000"/>
          </a:bodyPr>
          <a:p>
            <a:pPr marL="40608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marL="680760" indent="-23364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marL="95472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marL="1229400" indent="-23364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marL="150336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marL="150336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marL="150336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96520" y="2069640"/>
            <a:ext cx="416556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0000"/>
          </a:bodyPr>
          <a:p>
            <a:pPr marL="40608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marL="680760" indent="-23364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marL="95472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marL="1229400" indent="-23364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marL="150336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marL="150336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marL="1503360" indent="-233280">
              <a:spcBef>
                <a:spcPts val="38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3"/>
          <a:stretch/>
        </p:blipFill>
        <p:spPr>
          <a:xfrm>
            <a:off x="2374920" y="1536840"/>
            <a:ext cx="5423040" cy="6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ndom.org/dice/?num=1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600200"/>
            <a:ext cx="8178840" cy="1905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0955a"/>
                </a:solidFill>
                <a:latin typeface="Baskerville"/>
              </a:rPr>
              <a:t>The Game of Greed</a:t>
            </a:r>
            <a:endParaRPr b="0" lang="en-US" sz="6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360" y="4190760"/>
            <a:ext cx="8178840" cy="1447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shamelessly ripped off from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0955a"/>
                </a:solidFill>
                <a:latin typeface="Baskerville"/>
              </a:rPr>
              <a:t>Rex Bogs by Fr Chris</a:t>
            </a:r>
            <a:endParaRPr b="0" i="1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Game Overview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 Round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your score: sum of scores from the five round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Highest score win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A Round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3000"/>
          </a:bodyPr>
          <a:p>
            <a:pPr marL="649440" indent="-41292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Everyone stands 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49440" indent="-41292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a six-sided die is “rolled” twice, and the sum is everybody’s current score for this round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49440" indent="-41292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If you are happy with this score, sit down writing the number on your score card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49440" indent="-41292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If you want more, keep standing, and the die is “rolled” again</a:t>
            </a:r>
            <a:br>
              <a:rPr sz="3200"/>
            </a:b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“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What next?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if it wasn’t a “2”, add the number rolled to the current scor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If you like this score, sit down and write it to your score card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If you want more, remain standing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What if it is a “2”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If you are sitting down, this is merely the end of the round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If you are standing you must score a zero for this round!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23960" y="2959200"/>
            <a:ext cx="8966160" cy="1193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Try a Practice Round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2736000" y="4669920"/>
            <a:ext cx="46929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Baskerville"/>
                <a:ea typeface="Baskerville"/>
                <a:hlinkClick r:id="rId1"/>
              </a:rPr>
              <a:t>Random. org</a:t>
            </a:r>
            <a:r>
              <a:rPr b="0" lang="en-US" sz="3200" spc="-1" strike="noStrike">
                <a:solidFill>
                  <a:srgbClr val="595650"/>
                </a:solidFill>
                <a:latin typeface="Baskerville"/>
                <a:ea typeface="Baskerville"/>
              </a:rPr>
              <a:t> virtual di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Score Card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93840" y="2476440"/>
          <a:ext cx="9235800" cy="4000680"/>
        </p:xfrm>
        <a:graphic>
          <a:graphicData uri="http://schemas.openxmlformats.org/drawingml/2006/table">
            <a:tbl>
              <a:tblPr/>
              <a:tblGrid>
                <a:gridCol w="2054160"/>
                <a:gridCol w="1050840"/>
                <a:gridCol w="1050840"/>
                <a:gridCol w="1051200"/>
                <a:gridCol w="1050840"/>
                <a:gridCol w="1050840"/>
                <a:gridCol w="1927080"/>
              </a:tblGrid>
              <a:tr h="1333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1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2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3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4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5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Game 1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95650"/>
                          </a:solidFill>
                          <a:latin typeface="Baskerville"/>
                        </a:rPr>
                        <a:t>Game 2</a:t>
                      </a:r>
                      <a:endParaRPr b="0" lang="en-US" sz="28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95650"/>
                        </a:solidFill>
                        <a:latin typeface="Baskerville"/>
                      </a:endParaRPr>
                    </a:p>
                  </a:txBody>
                  <a:tcPr anchor="ctr" marL="38160" marR="38160">
                    <a:lnL w="12240">
                      <a:solidFill>
                        <a:srgbClr val="35302f"/>
                      </a:solidFill>
                    </a:lnL>
                    <a:lnR w="12240">
                      <a:solidFill>
                        <a:srgbClr val="35302f"/>
                      </a:solidFill>
                    </a:lnR>
                    <a:lnT w="12240">
                      <a:solidFill>
                        <a:srgbClr val="35302f"/>
                      </a:solidFill>
                    </a:lnT>
                    <a:lnB w="12240">
                      <a:solidFill>
                        <a:srgbClr val="35302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Dot Plot/Histogram/Stem &amp;Leaf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enter, spread, and shap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 number summar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mean and standard deviation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8966160" cy="1194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omparison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96880" y="2158920"/>
            <a:ext cx="8966160" cy="447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Back-to-Back Stem and leaf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ompare: center, spread, and shap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hris Thiel</cp:lastModifiedBy>
  <dcterms:modified xsi:type="dcterms:W3CDTF">2018-12-14T15:01:44Z</dcterms:modified>
  <cp:revision>1</cp:revision>
  <dc:subject/>
  <dc:title>The Game of Greed</dc:title>
</cp:coreProperties>
</file>